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2ED-AA3D-4DA6-8031-35D3B159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F1B-780C-4A15-9806-FE3538CD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805-F12E-4ABA-82BC-A5977F81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65A-8201-48E1-9AF1-5C9ABAD9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E92-E736-402E-9A41-7AB37649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11F1-AB18-4105-899C-5BAC7C29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C6E-39D5-4F43-90DB-333D2B5A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2642-A2A4-42FC-B006-C4FB0E34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05E-1752-472F-AE19-BE5BB039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26C-52C1-4219-B06D-36FE4DE9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195B-52CE-4ADE-BB6D-80142743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9BBE-214C-4DC3-B701-839F2660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4342-B56E-4595-B246-835E6A7F4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preciation of Fixed As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i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cial Statemen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irs and Impro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nancial Statement Presentatio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 sh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or non-current assets, such as property, plant and equipment could be shown in two 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formation is listed in the balance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urrent Assets at C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Accumulated Deprec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(8,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urrent Assets, 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quisition cost and accumulated depreciation are omitted from the balance sheet but are detailed in the Notes to the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urrent Assets, 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nancial Statement Presentatio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nual depreciation is shown here as an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 or loss on sale of non-current assets appear on the income statement under the heading “Other income” or “Other los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airs and Improv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irs and main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ai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cost of restoring an asset’s potential after breakdowns or dam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intena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routine cost to keep the asset in normal cond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expensed in the income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ments (or capital expendit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make an asset perform better than before or it will increase the asset’s life or may reduce operating co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capitalized which will  increase the book value of the asset in the balance sh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5:50:41Z</dcterms:created>
  <dc:creator>ME</dc:creator>
  <dc:description/>
  <dc:language>en-US</dc:language>
  <cp:lastModifiedBy>ME</cp:lastModifiedBy>
  <dcterms:modified xsi:type="dcterms:W3CDTF">2004-07-29T16:21:30Z</dcterms:modified>
  <cp:revision>4</cp:revision>
  <dc:subject/>
  <dc:title>Depreciation of Fixed Assets</dc:title>
</cp:coreProperties>
</file>